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5DAB-D262-4195-B20A-D3216A45E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37E-BAFC-43E2-A0A1-D4CEB1E40F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D77-DBC2-4349-8409-2064FF28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2B9-9ADD-442D-83F6-62AE820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A27-E50C-4294-8FE9-69970F64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C39-6440-4958-A873-6E8328BD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F2B-9F0E-420C-B336-E2D0E99D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A08D-8AF8-487B-946A-776E19C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E30-A048-40C6-BD38-AAFE5D2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F2C-92BD-4D03-95BE-BAC2929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DE9-F8E7-417D-9C61-3D3BE2F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457A-B7B2-4978-B188-E2BA7E9B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C08F-C89E-4F92-A889-D1F6CA1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E86-E729-4ADB-88C5-C7E6BC62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7C55-9F76-49C3-ADF8-6928FAFE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0DB-E522-44CD-AFEE-4AC13D0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E437-208B-4046-880E-166D797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0A7F-5988-4B94-BD47-7AE34795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CBC2-E9CE-4D42-8522-DB366671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057D-5116-403A-AD3A-9468572C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BC7B-0489-47A9-83AC-5B860D3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5470-A935-404D-A06C-2453F8F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2066-6B6A-4887-9D05-8AD7DB7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5A7C-39FA-444C-B49D-BE64B1C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9EE-3D18-4353-ADCC-A4499E7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D1E0-BE1D-44CE-99FB-FE21664E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6628-ABC6-4E70-9243-407E543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09BC-0B06-43A7-9997-A7E4590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3CF8-2B28-4F74-A8F4-D10B783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7308-A4B6-4C8B-82B1-14C3CE1E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6C17-802C-4BBA-A7AD-8FDCBA3C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01BA-76AD-4328-8656-AF14B529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5B2F-5A17-4E28-90D6-9B98468C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FD30-F338-413D-8A3E-336CD93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2E71-3E23-47F1-ADA4-E1D3B29E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B77-7215-4281-9F50-205A9C94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1C0D-AF9D-4398-B917-72521F9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91C7-3EEA-4E94-885B-41F72EB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5CC7-F49D-4BA5-BE30-EAE3A536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8283-FABB-4DA2-BADA-AD7A993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D654-1C77-4E77-87F0-0238443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97B5-DB26-4C08-85EC-31DE9F6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BA9F-A0FD-4113-9782-76DF611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550D-5FDC-4A5F-A49A-4B7FE291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73E8-8CDE-433B-AF82-5352F42D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700-7088-47D0-A8DA-9FFB6D0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C1A-56A8-4764-B964-B664805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3A0-8DD9-4C1F-8C24-F43F7AF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FFB-5F05-4CCA-8EED-5B143D4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112-B9FA-429B-B325-48EF324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8192-60BE-4A92-86EB-D270BD135B5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B0D7-956D-499E-A883-4E75C9B88E9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7E9-8307-44A8-BCF5-0A6576FB984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5C5-7AE1-4C40-9503-B8AAED09115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286-A7FC-4E76-9618-FA4F5CDF81B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EF87-6CBA-4190-91FF-E2B2FA343A0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5E9D-18F7-4DBC-9022-48BAD829CD5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746-61FD-4287-8BEB-B2E271CB3F4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HE CELL MEMBRAN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5" descr="06_05"/>
          <p:cNvPicPr/>
          <p:nvPr/>
        </p:nvPicPr>
        <p:blipFill>
          <a:blip r:embed="rId1"/>
          <a:srcRect l="0" t="21000" r="0" b="15000"/>
          <a:stretch/>
        </p:blipFill>
        <p:spPr>
          <a:xfrm>
            <a:off x="380880" y="2193840"/>
            <a:ext cx="8410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7268-2C01-4182-9D7E-7239F98B9C58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G05_03"/>
          <p:cNvPicPr/>
          <p:nvPr/>
        </p:nvPicPr>
        <p:blipFill>
          <a:blip r:embed="rId1"/>
          <a:srcRect l="1668" t="0" r="71668" b="7569"/>
          <a:stretch/>
        </p:blipFill>
        <p:spPr>
          <a:xfrm>
            <a:off x="152280" y="1216080"/>
            <a:ext cx="2438640" cy="3965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FG05_03"/>
          <p:cNvPicPr/>
          <p:nvPr/>
        </p:nvPicPr>
        <p:blipFill>
          <a:blip r:embed="rId2"/>
          <a:srcRect l="29166" t="0" r="47503" b="7569"/>
          <a:stretch/>
        </p:blipFill>
        <p:spPr>
          <a:xfrm>
            <a:off x="2666880" y="1219320"/>
            <a:ext cx="2133720" cy="3965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FG05_03"/>
          <p:cNvPicPr/>
          <p:nvPr/>
        </p:nvPicPr>
        <p:blipFill>
          <a:blip r:embed="rId3"/>
          <a:srcRect l="50836" t="0" r="25003" b="7569"/>
          <a:stretch/>
        </p:blipFill>
        <p:spPr>
          <a:xfrm>
            <a:off x="4876920" y="1219320"/>
            <a:ext cx="2209680" cy="396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FG05_03"/>
          <p:cNvPicPr/>
          <p:nvPr/>
        </p:nvPicPr>
        <p:blipFill>
          <a:blip r:embed="rId4"/>
          <a:srcRect l="73336" t="0" r="6669" b="7569"/>
          <a:stretch/>
        </p:blipFill>
        <p:spPr>
          <a:xfrm>
            <a:off x="7162920" y="1219320"/>
            <a:ext cx="1828800" cy="396540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157-8D7E-442A-8B72-D39EF9FD7B28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6_07"/>
          <p:cNvPicPr/>
          <p:nvPr/>
        </p:nvPicPr>
        <p:blipFill>
          <a:blip r:embed="rId1"/>
          <a:srcRect l="0" t="3110" r="0" b="4386"/>
          <a:stretch/>
        </p:blipFill>
        <p:spPr>
          <a:xfrm>
            <a:off x="366840" y="898560"/>
            <a:ext cx="8410320" cy="5835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0400" y="158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Y FUNCTIONS OF MEMBRANE PROTEI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51520" y="138096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si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81760" y="2117880"/>
            <a:ext cx="10569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sm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532800" y="2960640"/>
            <a:ext cx="60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si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2147400" y="3300480"/>
            <a:ext cx="117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970320" y="3344760"/>
            <a:ext cx="1183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surfa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pto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790880" y="3300480"/>
            <a:ext cx="788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zy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2004840" y="6216480"/>
            <a:ext cx="1497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su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ntity mark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739920" y="6229440"/>
            <a:ext cx="1779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tachment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ytoskelet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484880" y="6195960"/>
            <a:ext cx="135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ell adhes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8F9-239C-4CDD-9527-49F8A748849E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LUID MOSAIC MODEL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saic - A picture or pattern produced by arranging together small colored pieces of hard material, such as stone, tile, or g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Picture 2" descr="http://img2.etsystatic.com/001/0/7131231/il_fullxfull.360103590_mu6l.jpg"/>
          <p:cNvPicPr/>
          <p:nvPr/>
        </p:nvPicPr>
        <p:blipFill>
          <a:blip r:embed="rId1"/>
          <a:srcRect l="22231" t="10552" r="13700" b="0"/>
          <a:stretch/>
        </p:blipFill>
        <p:spPr>
          <a:xfrm>
            <a:off x="2789280" y="3200400"/>
            <a:ext cx="3352680" cy="313380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C4F-99C8-465A-BB6B-E2B75D22C689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FLUID MOSAIC MODEL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lui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because individual phospholipids and proteins can move side-to-side within the layer like it’s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sa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because of the pattern produced by the scattere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when the membrane is viewed from abov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2" name="Picture 2" descr="http://www.mhhe.com/biosci/pae/botany/uno/graphics/uno01pob/vrl/images/0093.gif"/>
          <p:cNvPicPr/>
          <p:nvPr/>
        </p:nvPicPr>
        <p:blipFill>
          <a:blip r:embed="rId1"/>
          <a:srcRect l="0" t="27079" r="0" b="0"/>
          <a:stretch/>
        </p:blipFill>
        <p:spPr>
          <a:xfrm>
            <a:off x="1523880" y="3352680"/>
            <a:ext cx="60199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82A7-03C4-4A79-8F81-BD3A6EE5F68D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ELL MEMBRANE UNDER ELECTRON MICROSCOP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5" name="Picture 4" descr="plasma_membrane_of_c_la_435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39610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0EB5-27E7-4A9F-B053-5CED851C45DF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OV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e cell membrane separates living cells from their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urrounding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ery thin – 8nm thic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so known as the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lasma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embra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rols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raffic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in and out of the cel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de mostly of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hospholipid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electively permeable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– allows some substances to cross more easily than oth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9" descr="FG05_01"/>
          <p:cNvPicPr/>
          <p:nvPr/>
        </p:nvPicPr>
        <p:blipFill>
          <a:blip r:embed="rId1"/>
          <a:srcRect l="0" t="0" r="2502" b="5067"/>
          <a:stretch/>
        </p:blipFill>
        <p:spPr>
          <a:xfrm>
            <a:off x="2133720" y="4191120"/>
            <a:ext cx="5029200" cy="247788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E1D4-6130-41C1-9044-7B021737AD67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ELL MEMBRANE FUNC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ol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vem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materials into and out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intai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omeostas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meostasis –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alance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ternal condition of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m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ctive barrier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t the cell sense it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elp maintain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E26-7E02-4775-8AFB-39C9739D86F1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12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osed of 2 main part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atty acid tai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water hat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osphate group hea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water lov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ranged as 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Picture 5" descr="06_02b"/>
          <p:cNvPicPr/>
          <p:nvPr/>
        </p:nvPicPr>
        <p:blipFill>
          <a:blip r:embed="rId1"/>
          <a:srcRect l="15000" t="22500" r="24000" b="29251"/>
          <a:stretch/>
        </p:blipFill>
        <p:spPr>
          <a:xfrm>
            <a:off x="5181480" y="620640"/>
            <a:ext cx="3961080" cy="41799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6497280" y="852480"/>
            <a:ext cx="1329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Phospha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612120" y="3048120"/>
            <a:ext cx="121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Fatty acid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Tails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7" descr="extracellular_fluid_c_la_435"/>
          <p:cNvPicPr/>
          <p:nvPr/>
        </p:nvPicPr>
        <p:blipFill>
          <a:blip r:embed="rId2"/>
          <a:stretch/>
        </p:blipFill>
        <p:spPr>
          <a:xfrm>
            <a:off x="457200" y="4724280"/>
            <a:ext cx="4267080" cy="189864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F4F2-5450-4CBD-990D-0C00A72BB358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 BILAYER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Picture 2" descr="http://images.tutorvista.com/content/cellular-micromolecules/lipid-bilayer-structure.jpeg"/>
          <p:cNvPicPr/>
          <p:nvPr/>
        </p:nvPicPr>
        <p:blipFill>
          <a:blip r:embed="rId1"/>
          <a:stretch/>
        </p:blipFill>
        <p:spPr>
          <a:xfrm>
            <a:off x="1676520" y="1523880"/>
            <a:ext cx="6172200" cy="471672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9CDF-0D2C-4CBD-99D5-14888108FA7F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HOSPHOLIPID BILAYER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made of 2 layers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hospholipid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lled the lipid 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lecules pass easily;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do no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kes the membran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“selective”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what cro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8E1E-71D5-4557-BED2-88ACB1B6C5A8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EMIPERMEABLE MEMBRAN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emipermeabl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or selectively permeable.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mall molecules and larg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ob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can move through easi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amples: Oxygen (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, Carbon Dioxide (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), Water (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large molecules, and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ydrophilic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olecules larger than wat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do not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ve through the membrane on their ow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825-FF3B-4390-9DB9-D601CC7DA1C7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SEMIPERMEABLE MEMBRAN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304920" y="1676520"/>
            <a:ext cx="8153280" cy="4225680"/>
            <a:chOff x="304920" y="1676520"/>
            <a:chExt cx="8153280" cy="4225680"/>
          </a:xfrm>
        </p:grpSpPr>
        <p:pic>
          <p:nvPicPr>
            <p:cNvPr id="202" name="Picture 3" descr="FG05_02"/>
            <p:cNvPicPr/>
            <p:nvPr/>
          </p:nvPicPr>
          <p:blipFill>
            <a:blip r:embed="rId1"/>
            <a:srcRect l="0" t="0" r="68471" b="9163"/>
            <a:stretch/>
          </p:blipFill>
          <p:spPr>
            <a:xfrm>
              <a:off x="304920" y="1676520"/>
              <a:ext cx="2666880" cy="36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"/>
            <p:cNvSpPr/>
            <p:nvPr/>
          </p:nvSpPr>
          <p:spPr>
            <a:xfrm>
              <a:off x="365040" y="5322960"/>
              <a:ext cx="8093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04" name="Picture 5" descr="FG05_02"/>
          <p:cNvPicPr/>
          <p:nvPr/>
        </p:nvPicPr>
        <p:blipFill>
          <a:blip r:embed="rId2"/>
          <a:srcRect l="31533" t="0" r="0" b="9163"/>
          <a:stretch/>
        </p:blipFill>
        <p:spPr>
          <a:xfrm>
            <a:off x="2971800" y="1677960"/>
            <a:ext cx="5791320" cy="3645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2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7FAA-3455-4D20-96BB-CD94E801F61B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PROTEI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ell membrane is a collage of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teins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other molecules embedded in the lipid bilay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teins are critical to membrane function by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ing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ructural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ing the cell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cogniz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ts surrounding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ing the cell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munic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with other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ing a way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ranspor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materials into and out of the cel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4A2F-5EF0-4116-9D1B-44B09B71BF04}" type="slidenum">
              <a:rPr b="0" lang="en-US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21:05:13Z</dcterms:created>
  <dc:creator>Ben</dc:creator>
  <dc:description/>
  <dc:language>en-US</dc:language>
  <cp:lastModifiedBy>Ben</cp:lastModifiedBy>
  <dcterms:modified xsi:type="dcterms:W3CDTF">2012-10-09T20:24:22Z</dcterms:modified>
  <cp:revision>9</cp:revision>
  <dc:subject/>
  <dc:title>The Cell Membrane</dc:title>
</cp:coreProperties>
</file>